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B49-46A6-43EE-9C52-4F95CD95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8DF-9667-4F7F-9333-BCCB7195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EEA-435A-425B-9D98-CFDAA2CF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45D-44F6-4C06-B227-7BAB46E7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391-BE2D-4AA8-9209-6B39F19E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75E-5AC4-42DF-B17A-E7BCAB82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7E5-4A60-4E7B-97A8-93D8E8D5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9FE-0A55-4EFC-8969-BF4FCC91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A745-0E60-4DC8-8883-4B15BD3D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360-D233-4485-860C-DA94AC8D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904-25DB-4B1F-81FC-BA235299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184-E3F2-4C86-9AE5-3909FCAC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2442-4B93-4433-A57E-CFFCACE05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Measu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ichael T. Rapp, MD, JD, FAC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, Quality Measurement &amp; Health Assessment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ffice of Clinical Standards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Karen Milg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, Office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BAE-31FA-45BE-B10F-3C7DEAEF12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Using and Combining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measures are not equal. Combinations could be flexible.  For example, well-accepted measures affecting larger numbers of beneficiaries could get more weight tha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chanism for creating compos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warding both attainment of set threshold of performance and improvement on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teraction between quality and resource use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ing at different levels of accoun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A95-94CB-47A9-B1B3-F7A7E78F90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ich quality and resource use measures best achieve the stated go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the Plan focus solely on individual practices, or is there a way to broaden account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strategies for measurement best address the technical challenges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iven current and potential data sources, which measures and level of accountability would be most effe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f combinations of measures are used, should they be equally weighted?  If not, which should receive more or less we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DE9-3C3D-4B34-BDB6-6795428D8B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24E-995B-41AB-8339-76DBDC23C5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chnic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Ke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oice of Quality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oice of Resource Us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nit of Measurement and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mbining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20E-96D9-47A0-9508-4FA1F61ED8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key dimensions of quality, with attention to outcomes, cost of care, patient experience, care coordination, prevention, and adoption and use of 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ommodate the continued evolution and incorporation of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ign measures across providers and settings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just measurement data for fairness, where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228-7901-4091-966C-8D976FD6A2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orporate quality and resource us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uild on current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alance the precision of a measure with the manner in which it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coordination with other providers to the extent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eek to align Medicare efforts with other p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629-4355-4655-A9B6-F94CEED407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bundant data, but limited scope at physician practice level and attributi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ugmente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road scope of measures and self-at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enefits of augmented claims plus captur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linical, primary source data; EHR use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Collec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bined 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2FF-8E86-4BBA-BE4D-39C2F8FAEC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Technical Challe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nchmarking/Pe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isk-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liers (resource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essionals and CMS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7E2-ACF7-4763-AB6C-FA10B2041D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Quality Meas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inical proces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comes, including intermediate, such as HgbA1c levels, and longer term, such as potentially avoidable admi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ructural, such as EHR use and e-prescrib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tient perception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128-FC55-48C9-A64B-EAEDBB2ABF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esource Use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ossible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rvice specific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er cap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pis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uld be used in combination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3EA-25FF-486C-9906-E31B7D7CD4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ccountable Entity and Unit of Measur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dividual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roup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ountable care entit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mbination?  For example, re-admissions at the system level and PQRI for individual physicia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097-ACCE-442B-B35F-78323A618C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45:04Z</dcterms:created>
  <dc:creator>CMS</dc:creator>
  <dc:description/>
  <dc:language>en-US</dc:language>
  <cp:lastModifiedBy>CMS</cp:lastModifiedBy>
  <dcterms:modified xsi:type="dcterms:W3CDTF">2008-12-08T15:39:29Z</dcterms:modified>
  <cp:revision>14</cp:revision>
  <dc:subject/>
  <dc:title>Measur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42570744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